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F0781D-E14F-4423-B69E-DD072313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points do not trace out edges continuously in the actual algorithm.  The sweep line stops at discrete event points as will be shown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weep steps, rather than a continuous 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46F-B945-4A43-8F24-0B136E66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CB9-4DB5-4A2B-898A-CDCCA57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1B9-ADFD-4760-96BE-BD675042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57D-9D05-48E9-958C-69348F31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E22-F85A-4DA7-80C6-5F6C212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C66-642A-4D06-BC8B-77610BDA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3BD-558C-432F-BF27-5033AA0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A4B-1D37-4A3C-988F-F8943DC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1AB-CA18-4E97-842E-90B1E43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472-481B-4866-A384-ABB7F08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C1D-3B1F-4419-BCD8-4B7235D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293-7E63-4FB9-A530-64B9997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374-A5B2-4BCE-A2A8-66B7BA97E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7: 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Allen M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838 Computation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13500000">
            <a:off x="3098520" y="323820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201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942360"/>
            <a:ext cx="1191960" cy="1086840"/>
            <a:chOff x="3809880" y="3942360"/>
            <a:chExt cx="1191960" cy="1086840"/>
          </a:xfrm>
        </p:grpSpPr>
        <p:sp>
          <p:nvSpPr>
            <p:cNvPr id="205" name=""/>
            <p:cNvSpPr/>
            <p:nvPr/>
          </p:nvSpPr>
          <p:spPr>
            <a:xfrm rot="5400000">
              <a:off x="4849560" y="449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8040" y="394236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3962520"/>
              <a:ext cx="10670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352680" y="502920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5520" y="2657520"/>
            <a:ext cx="5972760" cy="2885400"/>
            <a:chOff x="695520" y="2657520"/>
            <a:chExt cx="5972760" cy="2885400"/>
          </a:xfrm>
        </p:grpSpPr>
        <p:sp>
          <p:nvSpPr>
            <p:cNvPr id="211" name=""/>
            <p:cNvSpPr/>
            <p:nvPr/>
          </p:nvSpPr>
          <p:spPr>
            <a:xfrm>
              <a:off x="4480560" y="50832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520" y="495612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V="1">
              <a:off x="2638080" y="4074840"/>
              <a:ext cx="1437480" cy="1046880"/>
            </a:xfrm>
            <a:prstGeom prst="curvedConnector5">
              <a:avLst>
                <a:gd name="adj1" fmla="val 49924"/>
                <a:gd name="adj2" fmla="val 49982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1333440" y="26575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3"/>
            </p:cNvCxnSpPr>
            <p:nvPr/>
          </p:nvCxnSpPr>
          <p:spPr>
            <a:xfrm>
              <a:off x="2582640" y="2885760"/>
              <a:ext cx="1192320" cy="568800"/>
            </a:xfrm>
            <a:prstGeom prst="curvedConnector5">
              <a:avLst>
                <a:gd name="adj1" fmla="val 49924"/>
                <a:gd name="adj2" fmla="val 49968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25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04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44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28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ounded cell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892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5560" y="4699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63204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29600" y="3638880"/>
            <a:ext cx="1993320" cy="1993320"/>
            <a:chOff x="4629600" y="3638880"/>
            <a:chExt cx="1993320" cy="1993320"/>
          </a:xfrm>
        </p:grpSpPr>
        <p:sp>
          <p:nvSpPr>
            <p:cNvPr id="260" name=""/>
            <p:cNvSpPr/>
            <p:nvPr/>
          </p:nvSpPr>
          <p:spPr>
            <a:xfrm>
              <a:off x="5613480" y="40132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061600" y="407088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0" y="3638880"/>
              <a:ext cx="1993320" cy="1993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3873240" y="1816200"/>
            <a:ext cx="749160" cy="1815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0640" y="3292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41480" y="3100680"/>
            <a:ext cx="2819160" cy="995760"/>
            <a:chOff x="4641480" y="3100680"/>
            <a:chExt cx="2819160" cy="995760"/>
          </a:xfrm>
        </p:grpSpPr>
        <p:sp>
          <p:nvSpPr>
            <p:cNvPr id="266" name=""/>
            <p:cNvSpPr/>
            <p:nvPr/>
          </p:nvSpPr>
          <p:spPr>
            <a:xfrm rot="18900000">
              <a:off x="5633280" y="3132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09600" y="31820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639240"/>
              <a:ext cx="2819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79760" y="2463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3720" y="1312920"/>
            <a:ext cx="843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on a Voronoi edge between s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edge is a subset of  locus of points equidista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278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279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02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51055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at least 3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vertex is an intersection of 3 more segments, each equidistant from a pai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340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64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81680" y="467676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343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3200" y="166320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Not all bisectors are Voronoi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28800" y="3373560"/>
            <a:ext cx="55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3680" y="4154400"/>
            <a:ext cx="63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143680" y="3792240"/>
            <a:ext cx="3171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556240" y="4269960"/>
            <a:ext cx="51588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72120" y="42192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4040" y="2743200"/>
            <a:ext cx="4254480" cy="3097080"/>
            <a:chOff x="2984040" y="2743200"/>
            <a:chExt cx="4254480" cy="3097080"/>
          </a:xfrm>
        </p:grpSpPr>
        <p:sp>
          <p:nvSpPr>
            <p:cNvPr id="404" name=""/>
            <p:cNvSpPr/>
            <p:nvPr/>
          </p:nvSpPr>
          <p:spPr>
            <a:xfrm>
              <a:off x="3428640" y="3111840"/>
              <a:ext cx="11430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1640" y="3748680"/>
              <a:ext cx="1904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18720" y="4096080"/>
              <a:ext cx="114300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984040" y="5022360"/>
              <a:ext cx="63468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619080" y="4906440"/>
              <a:ext cx="10796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698720" y="4269240"/>
              <a:ext cx="50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2080" y="4096080"/>
              <a:ext cx="38088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60840" y="3792240"/>
              <a:ext cx="60300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6680" y="4269600"/>
              <a:ext cx="3492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8720" y="4906800"/>
              <a:ext cx="8730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563800" y="4645800"/>
              <a:ext cx="756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452920" y="3524040"/>
              <a:ext cx="31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555800" y="3365280"/>
              <a:ext cx="88092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1720" y="5138280"/>
              <a:ext cx="46800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79680" y="4277160"/>
              <a:ext cx="11588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4600" y="3538800"/>
              <a:ext cx="8967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072120" y="3770280"/>
              <a:ext cx="30132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373440" y="3335760"/>
              <a:ext cx="84132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436720" y="2743200"/>
              <a:ext cx="4752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81320" y="523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4080" y="386064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3200" y="515448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48280" y="46926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0" y="409716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56200" y="451800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05432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240" y="373536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43044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86480" y="43434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1880" y="3881520"/>
            <a:ext cx="190440" cy="17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00680" y="3678120"/>
            <a:ext cx="190440" cy="17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9320" y="330192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6160" y="530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0280" y="312408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57600" y="2666880"/>
            <a:ext cx="3200400" cy="28958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(Easy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048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31880" y="53341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near si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n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Formul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nected, planar graph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f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9720" y="5003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70400" y="5384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3"/>
            <a:endCxn id="456" idx="0"/>
          </p:cNvCxnSpPr>
          <p:nvPr/>
        </p:nvCxnSpPr>
        <p:spPr>
          <a:xfrm flipH="1">
            <a:off x="5346000" y="4295520"/>
            <a:ext cx="99000" cy="108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6" idx="6"/>
            <a:endCxn id="455" idx="3"/>
          </p:cNvCxnSpPr>
          <p:nvPr/>
        </p:nvCxnSpPr>
        <p:spPr>
          <a:xfrm flipV="1">
            <a:off x="5422680" y="5133600"/>
            <a:ext cx="1089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5" idx="1"/>
            <a:endCxn id="454" idx="6"/>
          </p:cNvCxnSpPr>
          <p:nvPr/>
        </p:nvCxnSpPr>
        <p:spPr>
          <a:xfrm flipH="1" flipV="1">
            <a:off x="5574960" y="4241520"/>
            <a:ext cx="9374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0" name=""/>
          <p:cNvGrpSpPr/>
          <p:nvPr/>
        </p:nvGrpSpPr>
        <p:grpSpPr>
          <a:xfrm>
            <a:off x="5552640" y="4187520"/>
            <a:ext cx="1775160" cy="892080"/>
            <a:chOff x="5552640" y="4187520"/>
            <a:chExt cx="1775160" cy="892080"/>
          </a:xfrm>
        </p:grpSpPr>
        <p:sp>
          <p:nvSpPr>
            <p:cNvPr id="461" name=""/>
            <p:cNvSpPr/>
            <p:nvPr/>
          </p:nvSpPr>
          <p:spPr>
            <a:xfrm>
              <a:off x="7175520" y="4317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54" idx="7"/>
              <a:endCxn id="461" idx="2"/>
            </p:cNvCxnSpPr>
            <p:nvPr/>
          </p:nvCxnSpPr>
          <p:spPr>
            <a:xfrm>
              <a:off x="5552640" y="4187520"/>
              <a:ext cx="162324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3" name=""/>
            <p:cNvCxnSpPr>
              <a:stCxn id="455" idx="6"/>
              <a:endCxn id="461" idx="3"/>
            </p:cNvCxnSpPr>
            <p:nvPr/>
          </p:nvCxnSpPr>
          <p:spPr>
            <a:xfrm flipV="1">
              <a:off x="6642000" y="4447440"/>
              <a:ext cx="556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6620040" y="5133600"/>
            <a:ext cx="860400" cy="708480"/>
            <a:chOff x="6620040" y="5133600"/>
            <a:chExt cx="860400" cy="708480"/>
          </a:xfrm>
        </p:grpSpPr>
        <p:sp>
          <p:nvSpPr>
            <p:cNvPr id="465" name=""/>
            <p:cNvSpPr/>
            <p:nvPr/>
          </p:nvSpPr>
          <p:spPr>
            <a:xfrm>
              <a:off x="7327800" y="56894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5" idx="5"/>
              <a:endCxn id="465" idx="1"/>
            </p:cNvCxnSpPr>
            <p:nvPr/>
          </p:nvCxnSpPr>
          <p:spPr>
            <a:xfrm>
              <a:off x="6620040" y="5133600"/>
              <a:ext cx="730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Office:  What is the area of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2743200"/>
            <a:ext cx="3805200" cy="2606040"/>
            <a:chOff x="380880" y="2743200"/>
            <a:chExt cx="3805200" cy="2606040"/>
          </a:xfrm>
        </p:grpSpPr>
        <p:grpSp>
          <p:nvGrpSpPr>
            <p:cNvPr id="52" name=""/>
            <p:cNvGrpSpPr/>
            <p:nvPr/>
          </p:nvGrpSpPr>
          <p:grpSpPr>
            <a:xfrm>
              <a:off x="3795840" y="4889520"/>
              <a:ext cx="390240" cy="459720"/>
              <a:chOff x="3795840" y="4889520"/>
              <a:chExt cx="390240" cy="459720"/>
            </a:xfrm>
          </p:grpSpPr>
          <p:sp>
            <p:nvSpPr>
              <p:cNvPr id="53" name=""/>
              <p:cNvSpPr/>
              <p:nvPr/>
            </p:nvSpPr>
            <p:spPr>
              <a:xfrm>
                <a:off x="4043520" y="4900680"/>
                <a:ext cx="14256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95840" y="488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80880" y="2743200"/>
              <a:ext cx="26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free 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2320" y="1728360"/>
            <a:ext cx="7313760" cy="4077000"/>
            <a:chOff x="382320" y="1728360"/>
            <a:chExt cx="7313760" cy="4077000"/>
          </a:xfrm>
        </p:grpSpPr>
        <p:sp>
          <p:nvSpPr>
            <p:cNvPr id="57" name=""/>
            <p:cNvSpPr/>
            <p:nvPr/>
          </p:nvSpPr>
          <p:spPr>
            <a:xfrm flipH="1" flipV="1">
              <a:off x="5524200" y="2557080"/>
              <a:ext cx="66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82320" y="1728360"/>
              <a:ext cx="7313760" cy="4077000"/>
              <a:chOff x="382320" y="1728360"/>
              <a:chExt cx="7313760" cy="4077000"/>
            </a:xfrm>
          </p:grpSpPr>
          <p:sp>
            <p:nvSpPr>
              <p:cNvPr id="59" name=""/>
              <p:cNvSpPr/>
              <p:nvPr/>
            </p:nvSpPr>
            <p:spPr>
              <a:xfrm>
                <a:off x="5181480" y="3586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181480" y="3109680"/>
                <a:ext cx="38124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676840" y="3738600"/>
                <a:ext cx="6192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296040" y="3672000"/>
                <a:ext cx="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82320" y="1728360"/>
                <a:ext cx="7313760" cy="4077000"/>
                <a:chOff x="382320" y="1728360"/>
                <a:chExt cx="7313760" cy="40770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90920" y="1728360"/>
                  <a:ext cx="5105160" cy="4077000"/>
                  <a:chOff x="2590920" y="1728360"/>
                  <a:chExt cx="5105160" cy="407700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90920" y="1728360"/>
                    <a:ext cx="5105160" cy="4077000"/>
                    <a:chOff x="2590920" y="1728360"/>
                    <a:chExt cx="5105160" cy="407700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124080" y="2214360"/>
                      <a:ext cx="1371600" cy="83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495680" y="3052440"/>
                      <a:ext cx="22860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H="1">
                      <a:off x="3352680" y="3509640"/>
                      <a:ext cx="1371600" cy="121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H="1">
                      <a:off x="2590920" y="4728960"/>
                      <a:ext cx="76176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352680" y="4576320"/>
                      <a:ext cx="129564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4648320" y="3737880"/>
                      <a:ext cx="609480" cy="838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724280" y="3509640"/>
                      <a:ext cx="45720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562720" y="3109680"/>
                      <a:ext cx="72396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5257800" y="3738240"/>
                      <a:ext cx="419040" cy="48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4648320" y="4576680"/>
                      <a:ext cx="104760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H="1" flipV="1">
                      <a:off x="5686560" y="4233240"/>
                      <a:ext cx="9360" cy="63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5553000" y="2756880"/>
                      <a:ext cx="38160" cy="35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4476600" y="2547360"/>
                      <a:ext cx="1057320" cy="48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5695920" y="4881240"/>
                      <a:ext cx="561960" cy="924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305400" y="3747960"/>
                      <a:ext cx="1390680" cy="1143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591160" y="2776320"/>
                      <a:ext cx="10764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V="1">
                      <a:off x="6296040" y="3081240"/>
                      <a:ext cx="361800" cy="59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V="1">
                      <a:off x="6657840" y="2509200"/>
                      <a:ext cx="100980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V="1">
                      <a:off x="5533920" y="1728360"/>
                      <a:ext cx="57240" cy="81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067080" y="5003640"/>
                    <a:ext cx="316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382320" y="3200400"/>
                  <a:ext cx="2559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: Voronoi edg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" name=""/>
          <p:cNvGrpSpPr/>
          <p:nvPr/>
        </p:nvGrpSpPr>
        <p:grpSpPr>
          <a:xfrm>
            <a:off x="380880" y="2535120"/>
            <a:ext cx="6319800" cy="2514240"/>
            <a:chOff x="380880" y="2535120"/>
            <a:chExt cx="6319800" cy="2514240"/>
          </a:xfrm>
        </p:grpSpPr>
        <p:grpSp>
          <p:nvGrpSpPr>
            <p:cNvPr id="88" name=""/>
            <p:cNvGrpSpPr/>
            <p:nvPr/>
          </p:nvGrpSpPr>
          <p:grpSpPr>
            <a:xfrm>
              <a:off x="3340080" y="2535120"/>
              <a:ext cx="3360600" cy="2514240"/>
              <a:chOff x="3340080" y="2535120"/>
              <a:chExt cx="3360600" cy="2514240"/>
            </a:xfrm>
          </p:grpSpPr>
          <p:sp>
            <p:nvSpPr>
              <p:cNvPr id="89" name=""/>
              <p:cNvSpPr/>
              <p:nvPr/>
            </p:nvSpPr>
            <p:spPr>
              <a:xfrm>
                <a:off x="5695560" y="45896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340080" y="2535120"/>
                <a:ext cx="3360600" cy="2400480"/>
                <a:chOff x="3340080" y="2535120"/>
                <a:chExt cx="3360600" cy="24004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51640" y="48466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29240" y="4529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40080" y="4691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86480" y="34718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157720" y="3557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24320" y="3720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635800" y="41972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256440" y="37288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51400" y="3616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14840" y="3086280"/>
                  <a:ext cx="88920" cy="8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43640" y="2743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84960" y="25351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43480" y="30146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11760" y="3038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3808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Voronoi verte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8520" y="2286000"/>
            <a:ext cx="6625800" cy="3375720"/>
            <a:chOff x="308520" y="2286000"/>
            <a:chExt cx="6625800" cy="3375720"/>
          </a:xfrm>
        </p:grpSpPr>
        <p:grpSp>
          <p:nvGrpSpPr>
            <p:cNvPr id="107" name=""/>
            <p:cNvGrpSpPr/>
            <p:nvPr/>
          </p:nvGrpSpPr>
          <p:grpSpPr>
            <a:xfrm>
              <a:off x="4114800" y="2519280"/>
              <a:ext cx="2819520" cy="3142440"/>
              <a:chOff x="4114800" y="2519280"/>
              <a:chExt cx="2819520" cy="3142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495792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4195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868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2200" y="4119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0572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19920" y="3052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25956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48320" y="38908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2814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2976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48320" y="25192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0080" y="51516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8520" y="2286000"/>
              <a:ext cx="214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site po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oronoi graph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=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n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567200" y="4374720"/>
            <a:ext cx="414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53360" y="4994280"/>
            <a:ext cx="47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353360" y="4707000"/>
            <a:ext cx="237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661160" y="5086080"/>
            <a:ext cx="3859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8047080" y="5045040"/>
            <a:ext cx="144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70680" y="4167360"/>
            <a:ext cx="855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26400" y="4672080"/>
            <a:ext cx="1411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13600" y="4948200"/>
            <a:ext cx="85392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38400" y="5683320"/>
            <a:ext cx="474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13600" y="5591160"/>
            <a:ext cx="8078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021440" y="5086440"/>
            <a:ext cx="37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4948200"/>
            <a:ext cx="2858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91320" y="4707000"/>
            <a:ext cx="4510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00880" y="5086440"/>
            <a:ext cx="2602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21440" y="5591160"/>
            <a:ext cx="6526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7667640" y="5384520"/>
            <a:ext cx="64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85200" y="4493880"/>
            <a:ext cx="23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913440" y="4368600"/>
            <a:ext cx="658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74120" y="5773680"/>
            <a:ext cx="2919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53560" y="5091120"/>
            <a:ext cx="86652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8960" y="4506840"/>
            <a:ext cx="6699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8047080" y="4689360"/>
            <a:ext cx="2253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272440" y="4344840"/>
            <a:ext cx="63036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572240" y="3875040"/>
            <a:ext cx="3672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05240" y="584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05680" y="578628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48600" y="53276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804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61400" y="528156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9296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66000" y="463860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61400" y="436392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2080" y="5143680"/>
            <a:ext cx="1411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78720" y="47768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05680" y="4594320"/>
            <a:ext cx="14292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2080" y="4317840"/>
            <a:ext cx="141120" cy="136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82920" y="5902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965840"/>
            <a:ext cx="1144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74440" y="49402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09040" y="3634920"/>
            <a:ext cx="5711040" cy="2941920"/>
            <a:chOff x="3209040" y="3634920"/>
            <a:chExt cx="5711040" cy="2941920"/>
          </a:xfrm>
        </p:grpSpPr>
        <p:cxnSp>
          <p:nvCxnSpPr>
            <p:cNvPr id="509" name=""/>
            <p:cNvCxnSpPr>
              <a:stCxn id="474" idx="0"/>
              <a:endCxn id="506" idx="7"/>
            </p:cNvCxnSpPr>
            <p:nvPr/>
          </p:nvCxnSpPr>
          <p:spPr>
            <a:xfrm rot="5400000">
              <a:off x="4240080" y="3135960"/>
              <a:ext cx="799200" cy="2861280"/>
            </a:xfrm>
            <a:prstGeom prst="curvedConnector5">
              <a:avLst>
                <a:gd name="adj1" fmla="val 49977"/>
                <a:gd name="adj2" fmla="val 49993"/>
                <a:gd name="adj3" fmla="val 49977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0" name=""/>
            <p:cNvCxnSpPr>
              <a:stCxn id="477" idx="0"/>
              <a:endCxn id="506" idx="5"/>
            </p:cNvCxnSpPr>
            <p:nvPr/>
          </p:nvCxnSpPr>
          <p:spPr>
            <a:xfrm flipV="1" rot="16200000">
              <a:off x="4087080" y="4210560"/>
              <a:ext cx="775080" cy="2531160"/>
            </a:xfrm>
            <a:prstGeom prst="curvedConnector5">
              <a:avLst>
                <a:gd name="adj1" fmla="val -14544"/>
                <a:gd name="adj2" fmla="val 50000"/>
                <a:gd name="adj3" fmla="val -14544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stCxn id="492" idx="0"/>
              <a:endCxn id="506" idx="7"/>
            </p:cNvCxnSpPr>
            <p:nvPr/>
          </p:nvCxnSpPr>
          <p:spPr>
            <a:xfrm rot="5400000">
              <a:off x="4863240" y="2221560"/>
              <a:ext cx="1089720" cy="4398120"/>
            </a:xfrm>
            <a:prstGeom prst="curvedConnector5">
              <a:avLst>
                <a:gd name="adj1" fmla="val -4230"/>
                <a:gd name="adj2" fmla="val 50000"/>
                <a:gd name="adj3" fmla="val -423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2" name=""/>
            <p:cNvCxnSpPr>
              <a:stCxn id="487" idx="0"/>
              <a:endCxn id="506" idx="5"/>
            </p:cNvCxnSpPr>
            <p:nvPr/>
          </p:nvCxnSpPr>
          <p:spPr>
            <a:xfrm flipV="1" rot="16200000">
              <a:off x="5017320" y="3280680"/>
              <a:ext cx="1140480" cy="4756680"/>
            </a:xfrm>
            <a:prstGeom prst="curvedConnector5">
              <a:avLst>
                <a:gd name="adj1" fmla="val -20050"/>
                <a:gd name="adj2" fmla="val 50000"/>
                <a:gd name="adj3" fmla="val -2005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3" name=""/>
            <p:cNvCxnSpPr>
              <a:stCxn id="488" idx="0"/>
              <a:endCxn id="506" idx="5"/>
            </p:cNvCxnSpPr>
            <p:nvPr/>
          </p:nvCxnSpPr>
          <p:spPr>
            <a:xfrm flipV="1" rot="16200000">
              <a:off x="5719320" y="2578680"/>
              <a:ext cx="691200" cy="5711040"/>
            </a:xfrm>
            <a:prstGeom prst="curvedConnector5">
              <a:avLst>
                <a:gd name="adj1" fmla="val -115372"/>
                <a:gd name="adj2" fmla="val 49996"/>
                <a:gd name="adj3" fmla="val -11537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4" name=""/>
            <p:cNvCxnSpPr>
              <a:stCxn id="491" idx="0"/>
              <a:endCxn id="506" idx="7"/>
            </p:cNvCxnSpPr>
            <p:nvPr/>
          </p:nvCxnSpPr>
          <p:spPr>
            <a:xfrm rot="5400000">
              <a:off x="5744520" y="1809720"/>
              <a:ext cx="621000" cy="5691600"/>
            </a:xfrm>
            <a:prstGeom prst="curvedConnector5">
              <a:avLst>
                <a:gd name="adj1" fmla="val -114385"/>
                <a:gd name="adj2" fmla="val 49996"/>
                <a:gd name="adj3" fmla="val -11438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515" name=""/>
          <p:cNvSpPr/>
          <p:nvPr/>
        </p:nvSpPr>
        <p:spPr>
          <a:xfrm>
            <a:off x="183240" y="3174840"/>
            <a:ext cx="359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ply Euler’s Formula,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arize” the Voronoi dia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necting half line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tra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3560" y="462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4317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81960" y="4470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673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4940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49150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563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5080" y="5562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07160" y="5321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0716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1000" y="5016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88400" y="49784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1700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60720" y="1913040"/>
                <a:ext cx="2730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o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357280" y="2900520"/>
                <a:ext cx="20685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Vo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714920" y="2876400"/>
                <a:ext cx="1714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090960" y="3733920"/>
                <a:ext cx="2773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003480" y="4724280"/>
                <a:ext cx="3157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511440" y="5564160"/>
                <a:ext cx="196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648320" y="2527200"/>
            <a:ext cx="3593880" cy="379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rot="19800000">
            <a:off x="3711240" y="3373200"/>
            <a:ext cx="2492280" cy="2846160"/>
          </a:xfrm>
          <a:prstGeom prst="triangle">
            <a:avLst>
              <a:gd name="adj" fmla="val 688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3500000">
            <a:off x="3911400" y="363168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5662440" y="48877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10560" y="433620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04960" y="2768760"/>
            <a:ext cx="3733560" cy="374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160" y="391464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7640" y="475308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plane inter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constructed as horizontal line sweeps the set of sites from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nstru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intains portion of diagram which cannot change due to sites below sweep line, keeping track of incremental changes for each site (and Voronoi vertex) it “swee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variant we are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5265720"/>
            <a:ext cx="7813800" cy="1432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representation of the locus of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closer to some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weep line than to the line itself (and thus to any site below the 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497120" y="2823840"/>
            <a:ext cx="442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8880" y="3541680"/>
            <a:ext cx="5220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68880" y="32083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597560" y="3647880"/>
            <a:ext cx="4093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006880" y="360036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556000" y="2244600"/>
            <a:ext cx="3377880" cy="2846160"/>
            <a:chOff x="2556000" y="2244600"/>
            <a:chExt cx="3377880" cy="2846160"/>
          </a:xfrm>
        </p:grpSpPr>
        <p:grpSp>
          <p:nvGrpSpPr>
            <p:cNvPr id="587" name=""/>
            <p:cNvGrpSpPr/>
            <p:nvPr/>
          </p:nvGrpSpPr>
          <p:grpSpPr>
            <a:xfrm>
              <a:off x="2556000" y="2244600"/>
              <a:ext cx="3377880" cy="2846160"/>
              <a:chOff x="2556000" y="2244600"/>
              <a:chExt cx="3377880" cy="2846160"/>
            </a:xfrm>
          </p:grpSpPr>
          <p:sp>
            <p:nvSpPr>
              <p:cNvPr id="588" name=""/>
              <p:cNvSpPr/>
              <p:nvPr/>
            </p:nvSpPr>
            <p:spPr>
              <a:xfrm>
                <a:off x="2908800" y="2583360"/>
                <a:ext cx="907560" cy="58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16360" y="3168720"/>
                <a:ext cx="15120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059640" y="3488040"/>
                <a:ext cx="90756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556000" y="4339440"/>
                <a:ext cx="50400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060000" y="4232880"/>
                <a:ext cx="857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17160" y="3647520"/>
                <a:ext cx="403200" cy="58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560" y="3488040"/>
                <a:ext cx="30240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22320" y="3208680"/>
                <a:ext cx="47880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20720" y="3647520"/>
                <a:ext cx="277200" cy="3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17160" y="4233240"/>
                <a:ext cx="693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604040" y="3993480"/>
                <a:ext cx="6120" cy="44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515840" y="2962080"/>
                <a:ext cx="252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3803760" y="2815920"/>
                <a:ext cx="699480" cy="3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10520" y="4445640"/>
                <a:ext cx="37152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13720" y="3654360"/>
                <a:ext cx="92016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41400" y="2975760"/>
                <a:ext cx="71208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07600" y="3188520"/>
                <a:ext cx="23940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247000" y="2789640"/>
                <a:ext cx="66816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503240" y="2244600"/>
                <a:ext cx="3780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855680" y="4533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611240" y="4243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051000" y="2808360"/>
            <a:ext cx="2224080" cy="1674360"/>
            <a:chOff x="3051000" y="2808360"/>
            <a:chExt cx="2224080" cy="1674360"/>
          </a:xfrm>
        </p:grpSpPr>
        <p:sp>
          <p:nvSpPr>
            <p:cNvPr id="610" name=""/>
            <p:cNvSpPr/>
            <p:nvPr/>
          </p:nvSpPr>
          <p:spPr>
            <a:xfrm>
              <a:off x="4581000" y="4420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04200" y="41994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1000" y="4312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2000" y="346176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4120" y="352152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98040" y="36356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0560" y="396792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81320" y="36410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78080" y="35625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90280" y="3192840"/>
              <a:ext cx="58680" cy="6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09360" y="2953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70480" y="2808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81080" y="3142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3159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017960" y="4500720"/>
            <a:ext cx="15228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70240" y="396720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344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25880" y="391464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8012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4360" y="3168720"/>
            <a:ext cx="15228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25880" y="2851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17880" y="375444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3328920"/>
            <a:ext cx="15084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17960" y="3116160"/>
            <a:ext cx="15228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17880" y="2797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06600" y="2587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16280" y="3672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440" y="3216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12880" y="37162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35840" y="22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00800" y="2336760"/>
            <a:ext cx="115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14240" y="11048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oints are closer to a site above the sweep line than to the sweep line it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04920" y="43639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8840" y="3646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12800" y="4118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763880" y="290808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85840" y="247176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3444840"/>
            <a:ext cx="25884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68920" y="3139920"/>
            <a:ext cx="633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621240" y="2895120"/>
            <a:ext cx="11286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38760" y="3124080"/>
            <a:ext cx="137304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756320" y="191088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69040" y="3444840"/>
            <a:ext cx="26172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3640" y="291636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713040"/>
            <a:ext cx="258840" cy="266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87720" y="335772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6360" y="282564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47120" y="2476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7248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3160" y="2162160"/>
            <a:ext cx="198720" cy="241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20040" y="5211720"/>
            <a:ext cx="69822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arabolic arcs form a beach-line that bou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us of all such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529240" y="3355920"/>
            <a:ext cx="3004200" cy="992160"/>
            <a:chOff x="5529240" y="3355920"/>
            <a:chExt cx="3004200" cy="992160"/>
          </a:xfrm>
        </p:grpSpPr>
        <p:sp>
          <p:nvSpPr>
            <p:cNvPr id="663" name=""/>
            <p:cNvSpPr/>
            <p:nvPr/>
          </p:nvSpPr>
          <p:spPr>
            <a:xfrm>
              <a:off x="5529240" y="3608280"/>
              <a:ext cx="39204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35320" y="3868920"/>
              <a:ext cx="0" cy="4791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790960" y="3579840"/>
              <a:ext cx="971280" cy="144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979600" y="3782880"/>
              <a:ext cx="812520" cy="3765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5200" y="3355920"/>
              <a:ext cx="175824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463840" y="2317680"/>
            <a:ext cx="4549680" cy="1873440"/>
            <a:chOff x="2463840" y="2317680"/>
            <a:chExt cx="4549680" cy="1873440"/>
          </a:xfrm>
        </p:grpSpPr>
        <p:sp>
          <p:nvSpPr>
            <p:cNvPr id="669" name=""/>
            <p:cNvSpPr/>
            <p:nvPr/>
          </p:nvSpPr>
          <p:spPr>
            <a:xfrm>
              <a:off x="2463840" y="3403440"/>
              <a:ext cx="1585800" cy="787680"/>
            </a:xfrm>
            <a:custGeom>
              <a:avLst/>
              <a:gdLst/>
              <a:ahLst/>
              <a:rect l="l" t="t" r="r" b="b"/>
              <a:pathLst>
                <a:path w="969" h="652">
                  <a:moveTo>
                    <a:pt x="0" y="0"/>
                  </a:moveTo>
                  <a:cubicBezTo>
                    <a:pt x="198" y="323"/>
                    <a:pt x="397" y="646"/>
                    <a:pt x="558" y="649"/>
                  </a:cubicBezTo>
                  <a:cubicBezTo>
                    <a:pt x="719" y="652"/>
                    <a:pt x="844" y="335"/>
                    <a:pt x="969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5360" y="2317680"/>
              <a:ext cx="3278160" cy="1797120"/>
            </a:xfrm>
            <a:custGeom>
              <a:avLst/>
              <a:gdLst/>
              <a:ahLst/>
              <a:rect l="l" t="t" r="r" b="b"/>
              <a:pathLst>
                <a:path w="1490" h="1132">
                  <a:moveTo>
                    <a:pt x="1490" y="155"/>
                  </a:moveTo>
                  <a:cubicBezTo>
                    <a:pt x="1257" y="643"/>
                    <a:pt x="1025" y="1132"/>
                    <a:pt x="777" y="1106"/>
                  </a:cubicBezTo>
                  <a:cubicBezTo>
                    <a:pt x="529" y="1080"/>
                    <a:pt x="129" y="1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8120" y="3057480"/>
              <a:ext cx="2263680" cy="887400"/>
            </a:xfrm>
            <a:custGeom>
              <a:avLst/>
              <a:gdLst/>
              <a:ahLst/>
              <a:rect l="l" t="t" r="r" b="b"/>
              <a:pathLst>
                <a:path w="814" h="633">
                  <a:moveTo>
                    <a:pt x="0" y="9"/>
                  </a:moveTo>
                  <a:cubicBezTo>
                    <a:pt x="142" y="321"/>
                    <a:pt x="285" y="633"/>
                    <a:pt x="421" y="631"/>
                  </a:cubicBezTo>
                  <a:cubicBezTo>
                    <a:pt x="557" y="629"/>
                    <a:pt x="685" y="314"/>
                    <a:pt x="8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489040" y="3235320"/>
            <a:ext cx="4067280" cy="1003320"/>
            <a:chOff x="2489040" y="3235320"/>
            <a:chExt cx="4067280" cy="1003320"/>
          </a:xfrm>
        </p:grpSpPr>
        <p:sp>
          <p:nvSpPr>
            <p:cNvPr id="673" name=""/>
            <p:cNvSpPr/>
            <p:nvPr/>
          </p:nvSpPr>
          <p:spPr>
            <a:xfrm>
              <a:off x="4800600" y="3235320"/>
              <a:ext cx="1755720" cy="909720"/>
            </a:xfrm>
            <a:custGeom>
              <a:avLst/>
              <a:gdLst/>
              <a:ahLst/>
              <a:rect l="l" t="t" r="r" b="b"/>
              <a:pathLst>
                <a:path w="1125" h="799">
                  <a:moveTo>
                    <a:pt x="0" y="348"/>
                  </a:moveTo>
                  <a:cubicBezTo>
                    <a:pt x="162" y="573"/>
                    <a:pt x="325" y="799"/>
                    <a:pt x="512" y="741"/>
                  </a:cubicBezTo>
                  <a:cubicBezTo>
                    <a:pt x="699" y="683"/>
                    <a:pt x="912" y="341"/>
                    <a:pt x="112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89040" y="3473280"/>
              <a:ext cx="1327320" cy="765360"/>
            </a:xfrm>
            <a:custGeom>
              <a:avLst/>
              <a:gdLst/>
              <a:ahLst/>
              <a:rect l="l" t="t" r="r" b="b"/>
              <a:pathLst>
                <a:path w="856" h="514">
                  <a:moveTo>
                    <a:pt x="0" y="0"/>
                  </a:moveTo>
                  <a:cubicBezTo>
                    <a:pt x="204" y="219"/>
                    <a:pt x="409" y="438"/>
                    <a:pt x="552" y="476"/>
                  </a:cubicBezTo>
                  <a:cubicBezTo>
                    <a:pt x="695" y="514"/>
                    <a:pt x="775" y="371"/>
                    <a:pt x="856" y="2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6360" y="3638520"/>
              <a:ext cx="977760" cy="326880"/>
            </a:xfrm>
            <a:custGeom>
              <a:avLst/>
              <a:gdLst/>
              <a:ahLst/>
              <a:rect l="l" t="t" r="r" b="b"/>
              <a:pathLst>
                <a:path w="616" h="206">
                  <a:moveTo>
                    <a:pt x="0" y="108"/>
                  </a:moveTo>
                  <a:cubicBezTo>
                    <a:pt x="114" y="157"/>
                    <a:pt x="229" y="206"/>
                    <a:pt x="332" y="188"/>
                  </a:cubicBezTo>
                  <a:cubicBezTo>
                    <a:pt x="435" y="170"/>
                    <a:pt x="525" y="85"/>
                    <a:pt x="61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oronoi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points (sites) in the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ronoi diagra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bdivision of the plane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, one for each si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in the cell corresponding to a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4240" y="1062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points trace out Voronoi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013640" y="3149640"/>
            <a:ext cx="1758240" cy="2123640"/>
            <a:chOff x="4013640" y="3149640"/>
            <a:chExt cx="1758240" cy="2123640"/>
          </a:xfrm>
        </p:grpSpPr>
        <p:sp>
          <p:nvSpPr>
            <p:cNvPr id="679" name=""/>
            <p:cNvSpPr/>
            <p:nvPr/>
          </p:nvSpPr>
          <p:spPr>
            <a:xfrm>
              <a:off x="4092480" y="3149640"/>
              <a:ext cx="711360" cy="1443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761000" y="3251160"/>
              <a:ext cx="753840" cy="428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89440" y="3294000"/>
              <a:ext cx="0" cy="725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4454640" y="3324240"/>
              <a:ext cx="247680" cy="15242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89440" y="4194360"/>
              <a:ext cx="0" cy="5364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905360" y="3366720"/>
              <a:ext cx="318960" cy="1451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13640" y="4813560"/>
              <a:ext cx="1758240" cy="459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104920" y="40356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840" y="33177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2800" y="37893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41760" y="3116160"/>
            <a:ext cx="25884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768920" y="2811240"/>
            <a:ext cx="63360" cy="85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906640"/>
            <a:ext cx="1755720" cy="9097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89040" y="3144960"/>
            <a:ext cx="1327320" cy="76500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6360" y="3309840"/>
            <a:ext cx="977760" cy="32724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s flatten out as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04920" y="490536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840" y="4187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12800" y="46594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41760" y="3116160"/>
            <a:ext cx="56196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22840" y="2811600"/>
            <a:ext cx="10944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56320" y="3719520"/>
            <a:ext cx="1755720" cy="3589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82960" y="3695760"/>
            <a:ext cx="1950840" cy="54756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48200" y="3875040"/>
            <a:ext cx="701640" cy="9360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, the middle arc dis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66913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89360" y="4805280"/>
            <a:ext cx="2251080" cy="2062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4160" y="4867200"/>
            <a:ext cx="2465280" cy="1573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27720" y="4884840"/>
            <a:ext cx="145800" cy="42840"/>
          </a:xfrm>
          <a:custGeom>
            <a:avLst/>
            <a:gdLst/>
            <a:ahLst/>
            <a:rect l="l" t="t" r="r" b="b"/>
            <a:pathLst>
              <a:path w="92" h="16">
                <a:moveTo>
                  <a:pt x="0" y="16"/>
                </a:moveTo>
                <a:cubicBezTo>
                  <a:pt x="18" y="13"/>
                  <a:pt x="35" y="6"/>
                  <a:pt x="52" y="4"/>
                </a:cubicBezTo>
                <a:cubicBezTo>
                  <a:pt x="65" y="2"/>
                  <a:pt x="92" y="0"/>
                  <a:pt x="92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tected a circle that is empty (contains no sites) and touches 3 or more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92320" y="6777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756320" y="1842840"/>
            <a:ext cx="6192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60920" y="5111640"/>
            <a:ext cx="2251080" cy="13356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12920" y="511668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644720" y="5181120"/>
            <a:ext cx="4070520" cy="1089360"/>
            <a:chOff x="4644720" y="5181120"/>
            <a:chExt cx="4070520" cy="1089360"/>
          </a:xfrm>
        </p:grpSpPr>
        <p:sp>
          <p:nvSpPr>
            <p:cNvPr id="778" name=""/>
            <p:cNvSpPr/>
            <p:nvPr/>
          </p:nvSpPr>
          <p:spPr>
            <a:xfrm>
              <a:off x="6135840" y="574992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4644720" y="5181120"/>
              <a:ext cx="1422360" cy="75420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h Lin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edges are traced by the break points as the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e of a new break point(s) (from formation of a new arc or a fusion of two existing break points) identifies a new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vertices are identified when two break points meet (fu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mation of an old arc identifies new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 simple data structure that allows an algorithm to traverse a Voronoi diagram’s segments, cells and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521240" y="3908520"/>
            <a:ext cx="540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40080" y="4761000"/>
            <a:ext cx="6372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40080" y="436572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45080" y="4886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149800" y="4830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128320" y="3220560"/>
            <a:ext cx="4162680" cy="3378240"/>
            <a:chOff x="2128320" y="3220560"/>
            <a:chExt cx="4162680" cy="3378240"/>
          </a:xfrm>
        </p:grpSpPr>
        <p:grpSp>
          <p:nvGrpSpPr>
            <p:cNvPr id="792" name=""/>
            <p:cNvGrpSpPr/>
            <p:nvPr/>
          </p:nvGrpSpPr>
          <p:grpSpPr>
            <a:xfrm>
              <a:off x="2128320" y="3220560"/>
              <a:ext cx="4162680" cy="3378240"/>
              <a:chOff x="2128320" y="3220560"/>
              <a:chExt cx="4162680" cy="3378240"/>
            </a:xfrm>
          </p:grpSpPr>
          <p:sp>
            <p:nvSpPr>
              <p:cNvPr id="793" name=""/>
              <p:cNvSpPr/>
              <p:nvPr/>
            </p:nvSpPr>
            <p:spPr>
              <a:xfrm>
                <a:off x="2563200" y="3623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81720" y="4317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49680" y="4696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128320" y="5707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2749680" y="5580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806280" y="4885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68200" y="4696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51840" y="4365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03080" y="4885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6280" y="5580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652280" y="5296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4543920" y="4072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666240" y="3899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60200" y="5833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57360" y="4894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74880" y="4088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149800" y="4341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444640" y="3867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528080" y="3220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963680" y="5936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60560" y="5591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739960" y="3889440"/>
            <a:ext cx="2739600" cy="1988640"/>
            <a:chOff x="2739960" y="3889440"/>
            <a:chExt cx="2739600" cy="1988640"/>
          </a:xfrm>
        </p:grpSpPr>
        <p:sp>
          <p:nvSpPr>
            <p:cNvPr id="815" name=""/>
            <p:cNvSpPr/>
            <p:nvPr/>
          </p:nvSpPr>
          <p:spPr>
            <a:xfrm>
              <a:off x="4624560" y="5804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90800" y="5541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39960" y="5675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7600" y="4665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21720" y="473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76080" y="4871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11600" y="5266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17760" y="487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13440" y="4785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12960" y="4345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36360" y="4061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8480" y="3889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39600" y="428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7200" y="4306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930480" y="5897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8040" y="5265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1484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49720" y="520236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496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4440" y="4317840"/>
            <a:ext cx="187200" cy="190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49720" y="39402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7000" y="501336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71760" y="45086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0480" y="4255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07000" y="387684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45680" y="5153040"/>
            <a:ext cx="8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7640" y="115524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egments into uni-directional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in of counter-clockwise half-edges forms a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half-edge’s “twin” to be its opposite half-edge of the sam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848960" y="2674440"/>
            <a:ext cx="4897440" cy="3975120"/>
            <a:chOff x="1848960" y="2674440"/>
            <a:chExt cx="4897440" cy="3975120"/>
          </a:xfrm>
        </p:grpSpPr>
        <p:sp>
          <p:nvSpPr>
            <p:cNvPr id="844" name=""/>
            <p:cNvSpPr/>
            <p:nvPr/>
          </p:nvSpPr>
          <p:spPr>
            <a:xfrm flipH="1" flipV="1">
              <a:off x="4663800" y="3483720"/>
              <a:ext cx="6336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33320" y="4486680"/>
              <a:ext cx="7488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33320" y="4021200"/>
              <a:ext cx="36612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809600" y="4633920"/>
              <a:ext cx="59364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403600" y="456912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1240" y="3148920"/>
              <a:ext cx="131436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75960" y="3965400"/>
              <a:ext cx="2199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579760" y="4411800"/>
              <a:ext cx="1316160" cy="11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1848960" y="5600160"/>
              <a:ext cx="730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579760" y="5452200"/>
              <a:ext cx="124380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823560" y="4633920"/>
              <a:ext cx="584280" cy="81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6280" y="4411800"/>
              <a:ext cx="43920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9440" y="4021560"/>
              <a:ext cx="69444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8200" y="4634280"/>
              <a:ext cx="40140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3560" y="5452560"/>
              <a:ext cx="10044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4818600" y="5118120"/>
              <a:ext cx="900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90080" y="3677400"/>
              <a:ext cx="3708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659040" y="3474000"/>
              <a:ext cx="1014120" cy="4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8320" y="5749560"/>
              <a:ext cx="5378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12960" y="4643640"/>
              <a:ext cx="133344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7520" y="3696480"/>
              <a:ext cx="103248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5403600" y="3993480"/>
              <a:ext cx="3470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750640" y="3436200"/>
              <a:ext cx="96768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673160" y="2674440"/>
              <a:ext cx="5400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84720" y="5869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26880" y="546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568240" y="3461400"/>
              <a:ext cx="3223080" cy="2340000"/>
              <a:chOff x="2568240" y="3461400"/>
              <a:chExt cx="3223080" cy="2340000"/>
            </a:xfrm>
          </p:grpSpPr>
          <p:sp>
            <p:nvSpPr>
              <p:cNvPr id="871" name=""/>
              <p:cNvSpPr/>
              <p:nvPr/>
            </p:nvSpPr>
            <p:spPr>
              <a:xfrm>
                <a:off x="4785120" y="57150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04480" y="5405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68240" y="556344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59560" y="43743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11360" y="44578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75440" y="461736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70000" y="50817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365440" y="46249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0400" y="45151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54080" y="3998520"/>
                <a:ext cx="84960" cy="86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81800" y="36640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25280" y="3461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26280" y="39286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6360" y="39517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969000" y="582408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89680" y="508068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396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85880" y="500616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80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38280" y="3965400"/>
              <a:ext cx="219960" cy="224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85880" y="3520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23560" y="4783680"/>
              <a:ext cx="21780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11640" y="418968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9000" y="389232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23560" y="3446280"/>
              <a:ext cx="21780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44160" y="4948200"/>
              <a:ext cx="98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476440" y="3149640"/>
            <a:ext cx="1117800" cy="698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657600" y="3454200"/>
            <a:ext cx="91440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635360" y="2743200"/>
            <a:ext cx="25560" cy="6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749480" y="2743200"/>
            <a:ext cx="50760" cy="66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24280" y="3479760"/>
            <a:ext cx="6372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89520" y="3683160"/>
            <a:ext cx="81288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765760" y="3428640"/>
            <a:ext cx="86364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841720" y="3530520"/>
            <a:ext cx="863640" cy="47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486040" y="4076640"/>
            <a:ext cx="304920" cy="52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49760" y="4686480"/>
            <a:ext cx="1130400" cy="927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5423040" y="4774680"/>
            <a:ext cx="1231920" cy="97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927680" y="4775040"/>
            <a:ext cx="38088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5194440"/>
            <a:ext cx="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52880" y="5829480"/>
            <a:ext cx="432000" cy="74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813200" y="5842080"/>
            <a:ext cx="457200" cy="799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886200" y="5524200"/>
            <a:ext cx="8510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54280" y="5524560"/>
            <a:ext cx="1155600" cy="13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929960" y="5702400"/>
            <a:ext cx="64764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879560" y="5524200"/>
            <a:ext cx="6476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616120" y="4431960"/>
            <a:ext cx="119376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645000" y="4051440"/>
            <a:ext cx="139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12720" y="3276720"/>
            <a:ext cx="1181160" cy="73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46520" y="3962520"/>
            <a:ext cx="17784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75120" y="4368960"/>
            <a:ext cx="342720" cy="50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343400" y="4013280"/>
            <a:ext cx="279360" cy="34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635360" y="3746520"/>
            <a:ext cx="25560" cy="20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610160" y="3555720"/>
            <a:ext cx="63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784680" y="3594240"/>
            <a:ext cx="77472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730600" y="4483080"/>
            <a:ext cx="119376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819520" y="5384520"/>
            <a:ext cx="95256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848040" y="4660920"/>
            <a:ext cx="482760" cy="67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4279680" y="4495680"/>
            <a:ext cx="50760" cy="114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949560" y="4483080"/>
            <a:ext cx="25416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06760" y="4483080"/>
            <a:ext cx="511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457520" y="4127400"/>
            <a:ext cx="25380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4800600" y="4152600"/>
            <a:ext cx="52056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08640" y="4648320"/>
            <a:ext cx="330120" cy="3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889520" y="4622400"/>
            <a:ext cx="41904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788000" y="3771720"/>
            <a:ext cx="8380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736880" y="3797280"/>
            <a:ext cx="126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788000" y="4038480"/>
            <a:ext cx="584280" cy="44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397480" y="4076640"/>
            <a:ext cx="190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27640" y="4746240"/>
            <a:ext cx="2887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948120" y="4775040"/>
            <a:ext cx="449280" cy="59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76560" y="5427720"/>
            <a:ext cx="770040" cy="23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775040" y="510516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ointer to any incident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pointers to all incident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-List of half-edges; each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Cell Tabl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start/end vertices of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previous/next half-edges in the CCW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twin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ed Binary Tre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7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nodes represent break points between two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the edge being tr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represent arcs, each arc is in turn represented by the site that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a potential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58720" y="3521160"/>
            <a:ext cx="3720240" cy="3031920"/>
            <a:chOff x="558720" y="3521160"/>
            <a:chExt cx="3720240" cy="3031920"/>
          </a:xfrm>
        </p:grpSpPr>
        <p:sp>
          <p:nvSpPr>
            <p:cNvPr id="948" name=""/>
            <p:cNvSpPr/>
            <p:nvPr/>
          </p:nvSpPr>
          <p:spPr>
            <a:xfrm>
              <a:off x="1841400" y="358128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7760" y="4826160"/>
              <a:ext cx="406440" cy="40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66880" y="481320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8" idx="3"/>
              <a:endCxn id="949" idx="7"/>
            </p:cNvCxnSpPr>
            <p:nvPr/>
          </p:nvCxnSpPr>
          <p:spPr>
            <a:xfrm flipH="1">
              <a:off x="1325160" y="3928680"/>
              <a:ext cx="575280" cy="95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>
              <a:stCxn id="948" idx="5"/>
              <a:endCxn id="950" idx="1"/>
            </p:cNvCxnSpPr>
            <p:nvPr/>
          </p:nvCxnSpPr>
          <p:spPr>
            <a:xfrm>
              <a:off x="2189160" y="3928680"/>
              <a:ext cx="536760" cy="9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3" name=""/>
            <p:cNvSpPr/>
            <p:nvPr/>
          </p:nvSpPr>
          <p:spPr>
            <a:xfrm>
              <a:off x="55872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09760" y="61088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4784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98880" y="60958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07240" y="352116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03640" y="4842000"/>
              <a:ext cx="115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94560" y="485460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49" idx="3"/>
              <a:endCxn id="953" idx="0"/>
            </p:cNvCxnSpPr>
            <p:nvPr/>
          </p:nvCxnSpPr>
          <p:spPr>
            <a:xfrm flipH="1">
              <a:off x="774360" y="5173200"/>
              <a:ext cx="262800" cy="94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49" idx="5"/>
              <a:endCxn id="954" idx="0"/>
            </p:cNvCxnSpPr>
            <p:nvPr/>
          </p:nvCxnSpPr>
          <p:spPr>
            <a:xfrm>
              <a:off x="1325520" y="5173560"/>
              <a:ext cx="300600" cy="9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50" idx="3"/>
              <a:endCxn id="955" idx="0"/>
            </p:cNvCxnSpPr>
            <p:nvPr/>
          </p:nvCxnSpPr>
          <p:spPr>
            <a:xfrm flipH="1">
              <a:off x="2463480" y="5160960"/>
              <a:ext cx="262080" cy="9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50" idx="5"/>
              <a:endCxn id="956" idx="0"/>
            </p:cNvCxnSpPr>
            <p:nvPr/>
          </p:nvCxnSpPr>
          <p:spPr>
            <a:xfrm>
              <a:off x="3014640" y="5160600"/>
              <a:ext cx="300600" cy="9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64" name=""/>
          <p:cNvSpPr/>
          <p:nvPr/>
        </p:nvSpPr>
        <p:spPr>
          <a:xfrm>
            <a:off x="5448240" y="568944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11880" y="565164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74000" y="60325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78560" y="549900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0240" y="6261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3880" y="47498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07160" y="443232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35840" y="3860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29480" y="42544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26080" y="36576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1800" y="44578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13040" y="413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12960" y="3914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96280" y="41940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26040" y="4105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46440" y="53848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88000" y="53974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4408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4686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3840" y="478800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13480" y="480060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97760" y="4788000"/>
            <a:ext cx="1231920" cy="34272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5960" y="454644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4200" y="3900600"/>
            <a:ext cx="7373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diku.dk/students/duff/Fortune/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msi.umn.edu/~schaudt/voronoi/voronoi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vent is an interesting point encountered by the sweep line as it sweeps from top 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makes discrete stops, rather than a continuous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te Events (when the sweep line encounters a new site point) and Circle Events (when the sweep line encounter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mpty circle touching 3 or mor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re prioritized based on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95560" y="514836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25680" y="51735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68880" y="51609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17800" y="3846600"/>
            <a:ext cx="2030400" cy="920520"/>
          </a:xfrm>
          <a:custGeom>
            <a:avLst/>
            <a:gdLst/>
            <a:ahLst/>
            <a:rect l="l" t="t" r="r" b="b"/>
            <a:pathLst>
              <a:path w="1234" h="616">
                <a:moveTo>
                  <a:pt x="0" y="292"/>
                </a:moveTo>
                <a:cubicBezTo>
                  <a:pt x="171" y="454"/>
                  <a:pt x="342" y="616"/>
                  <a:pt x="548" y="567"/>
                </a:cubicBezTo>
                <a:cubicBezTo>
                  <a:pt x="754" y="518"/>
                  <a:pt x="994" y="259"/>
                  <a:pt x="123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19760" y="3860640"/>
            <a:ext cx="1539720" cy="187560"/>
          </a:xfrm>
          <a:custGeom>
            <a:avLst/>
            <a:gdLst/>
            <a:ahLst/>
            <a:rect l="l" t="t" r="r" b="b"/>
            <a:pathLst>
              <a:path w="970" h="118">
                <a:moveTo>
                  <a:pt x="0" y="0"/>
                </a:moveTo>
                <a:cubicBezTo>
                  <a:pt x="221" y="51"/>
                  <a:pt x="442" y="102"/>
                  <a:pt x="604" y="110"/>
                </a:cubicBezTo>
                <a:cubicBezTo>
                  <a:pt x="766" y="118"/>
                  <a:pt x="868" y="82"/>
                  <a:pt x="970" y="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9248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444840" y="4142880"/>
            <a:ext cx="167652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4656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95560" y="5334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25680" y="5359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68880" y="5346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3520" y="3976560"/>
            <a:ext cx="2206440" cy="839880"/>
          </a:xfrm>
          <a:custGeom>
            <a:avLst/>
            <a:gdLst/>
            <a:ahLst/>
            <a:rect l="l" t="t" r="r" b="b"/>
            <a:pathLst>
              <a:path w="1390" h="529">
                <a:moveTo>
                  <a:pt x="0" y="293"/>
                </a:moveTo>
                <a:cubicBezTo>
                  <a:pt x="204" y="411"/>
                  <a:pt x="409" y="529"/>
                  <a:pt x="604" y="521"/>
                </a:cubicBezTo>
                <a:cubicBezTo>
                  <a:pt x="799" y="513"/>
                  <a:pt x="1040" y="334"/>
                  <a:pt x="1171" y="247"/>
                </a:cubicBezTo>
                <a:cubicBezTo>
                  <a:pt x="1302" y="160"/>
                  <a:pt x="1346" y="80"/>
                  <a:pt x="139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65560" y="3962520"/>
            <a:ext cx="1465560" cy="149040"/>
          </a:xfrm>
          <a:custGeom>
            <a:avLst/>
            <a:gdLst/>
            <a:ahLst/>
            <a:rect l="l" t="t" r="r" b="b"/>
            <a:pathLst>
              <a:path w="923" h="94">
                <a:moveTo>
                  <a:pt x="0" y="0"/>
                </a:moveTo>
                <a:cubicBezTo>
                  <a:pt x="179" y="44"/>
                  <a:pt x="358" y="88"/>
                  <a:pt x="512" y="91"/>
                </a:cubicBezTo>
                <a:cubicBezTo>
                  <a:pt x="666" y="94"/>
                  <a:pt x="794" y="56"/>
                  <a:pt x="923" y="18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4659480"/>
            <a:ext cx="0" cy="65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6412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516480" y="4142880"/>
            <a:ext cx="167616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1820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c above the new site is broken into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arcs on beach line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57760" y="447516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013360" y="411948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79640" y="465300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654360" y="425916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33920" y="296388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37120" y="519912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43360" y="5415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3480" y="5440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16680" y="5427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65280" y="4973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87920" y="4122720"/>
            <a:ext cx="333360" cy="36180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0" y="228"/>
                </a:moveTo>
                <a:cubicBezTo>
                  <a:pt x="37" y="187"/>
                  <a:pt x="75" y="147"/>
                  <a:pt x="110" y="109"/>
                </a:cubicBezTo>
                <a:cubicBezTo>
                  <a:pt x="145" y="71"/>
                  <a:pt x="177" y="35"/>
                  <a:pt x="21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64040" y="291132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416400" y="4257720"/>
            <a:ext cx="167616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18120" y="4257720"/>
            <a:ext cx="228600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713880" y="1647720"/>
            <a:ext cx="8077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disappears whenever an empty circle touches three or more sites and is tangent to the sweep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36000" y="581976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helps determine that the circle is indeed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70960" y="4143240"/>
            <a:ext cx="3746880" cy="1393920"/>
            <a:chOff x="570960" y="4143240"/>
            <a:chExt cx="3746880" cy="1393920"/>
          </a:xfrm>
        </p:grpSpPr>
        <p:sp>
          <p:nvSpPr>
            <p:cNvPr id="1038" name=""/>
            <p:cNvSpPr/>
            <p:nvPr/>
          </p:nvSpPr>
          <p:spPr>
            <a:xfrm>
              <a:off x="570960" y="4143240"/>
              <a:ext cx="22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ircle Event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93960" y="4546440"/>
              <a:ext cx="1409760" cy="88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91120" y="5410080"/>
              <a:ext cx="126720" cy="12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66000" y="4670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03440" y="4995720"/>
            <a:ext cx="0" cy="36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322520" y="2960280"/>
            <a:ext cx="4428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2698920"/>
            <a:ext cx="933480" cy="58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48240" y="3282840"/>
            <a:ext cx="59040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3100320"/>
            <a:ext cx="10476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637080" y="2952720"/>
            <a:ext cx="6760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67160" y="3090960"/>
            <a:ext cx="8240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317840" y="2518920"/>
            <a:ext cx="3672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84680" y="3282840"/>
            <a:ext cx="15732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89440" y="2965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53000" y="2911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74840" y="27018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08760" y="247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94160" y="2513160"/>
            <a:ext cx="1191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1240" y="4522320"/>
            <a:ext cx="3475080" cy="862920"/>
            <a:chOff x="4251240" y="4522320"/>
            <a:chExt cx="3475080" cy="862920"/>
          </a:xfrm>
        </p:grpSpPr>
        <p:sp>
          <p:nvSpPr>
            <p:cNvPr id="1061" name=""/>
            <p:cNvSpPr/>
            <p:nvPr/>
          </p:nvSpPr>
          <p:spPr>
            <a:xfrm>
              <a:off x="5146920" y="486468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4251240" y="4522320"/>
              <a:ext cx="853200" cy="45252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260960" y="4484520"/>
            <a:ext cx="1350720" cy="460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71720" y="4473720"/>
            <a:ext cx="1406520" cy="6984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20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Ev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sit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 Event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on the fly (intersection of the two bisectors in between the three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lowest point of an empty circle touching three or more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d”, these newly generated events may be false and need to be remov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prioritizes events based on their y-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izing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nodes of binary search tree; represented by a t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nodes of binary search tree; represented by a site that generated the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si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tree T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 list 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Q no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vent (e) from Q with largest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vent(e, T,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existing arc (if any)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its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wo half-edge records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event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e the existing arc that is above the new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17720" y="27050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54080" y="39495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936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4" idx="3"/>
            <a:endCxn id="1075" idx="7"/>
          </p:cNvCxnSpPr>
          <p:nvPr/>
        </p:nvCxnSpPr>
        <p:spPr>
          <a:xfrm flipH="1">
            <a:off x="1401480" y="3052440"/>
            <a:ext cx="5752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5"/>
            <a:endCxn id="1076" idx="1"/>
          </p:cNvCxnSpPr>
          <p:nvPr/>
        </p:nvCxnSpPr>
        <p:spPr>
          <a:xfrm>
            <a:off x="2265480" y="3052440"/>
            <a:ext cx="536760" cy="9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9" name=""/>
          <p:cNvSpPr/>
          <p:nvPr/>
        </p:nvSpPr>
        <p:spPr>
          <a:xfrm>
            <a:off x="63504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86080" y="52322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2416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74840" y="52196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83560" y="26449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79600" y="396540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70880" y="397836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stCxn id="1075" idx="3"/>
            <a:endCxn id="1079" idx="0"/>
          </p:cNvCxnSpPr>
          <p:nvPr/>
        </p:nvCxnSpPr>
        <p:spPr>
          <a:xfrm flipH="1">
            <a:off x="850680" y="4296960"/>
            <a:ext cx="26208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75" idx="5"/>
            <a:endCxn id="1080" idx="0"/>
          </p:cNvCxnSpPr>
          <p:nvPr/>
        </p:nvCxnSpPr>
        <p:spPr>
          <a:xfrm>
            <a:off x="1401480" y="42969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3"/>
            <a:endCxn id="1081" idx="0"/>
          </p:cNvCxnSpPr>
          <p:nvPr/>
        </p:nvCxnSpPr>
        <p:spPr>
          <a:xfrm flipH="1">
            <a:off x="2539800" y="42847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76" idx="5"/>
            <a:endCxn id="1082" idx="0"/>
          </p:cNvCxnSpPr>
          <p:nvPr/>
        </p:nvCxnSpPr>
        <p:spPr>
          <a:xfrm>
            <a:off x="3090600" y="4284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375480" y="1355760"/>
            <a:ext cx="80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the new site is used for the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each breakpoint along the root to leaf pa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s computed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80160" y="41274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38098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5760" y="36320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78440" y="38354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49320" y="3508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49600" y="32925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32560" y="357192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62680" y="34830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95680" y="507996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7240" y="509256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292960" y="510552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7880" y="4626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70480" y="416556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49760" y="417816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34040" y="4165560"/>
            <a:ext cx="1231920" cy="34308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316640" y="389556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59200" y="4978440"/>
            <a:ext cx="965160" cy="96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594560" y="49276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670880" y="434304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55920" y="45878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e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"/>
          <p:cNvCxnSpPr>
            <a:stCxn id="1112" idx="3"/>
            <a:endCxn id="111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2" idx="5"/>
            <a:endCxn id="111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3" idx="3"/>
            <a:endCxn id="111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4" name=""/>
          <p:cNvCxnSpPr>
            <a:stCxn id="1113" idx="5"/>
            <a:endCxn id="111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4" idx="3"/>
            <a:endCxn id="111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6" name=""/>
          <p:cNvCxnSpPr>
            <a:stCxn id="1114" idx="5"/>
            <a:endCxn id="112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8" name=""/>
          <p:cNvSpPr/>
          <p:nvPr/>
        </p:nvSpPr>
        <p:spPr>
          <a:xfrm>
            <a:off x="506520" y="12254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ing leaf replaced by a new sub-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49" idx="3"/>
            <a:endCxn id="1150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49" idx="5"/>
            <a:endCxn id="1151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6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7" name=""/>
          <p:cNvCxnSpPr>
            <a:stCxn id="1127" idx="3"/>
            <a:endCxn id="1156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8" name=""/>
          <p:cNvCxnSpPr>
            <a:stCxn id="1127" idx="4"/>
            <a:endCxn id="1149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80600" y="595944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arcs can be identifi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 the same si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5435640" y="1663560"/>
            <a:ext cx="2681280" cy="8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62" idx="3"/>
            <a:endCxn id="116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62" idx="5"/>
            <a:endCxn id="116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3" name=""/>
          <p:cNvCxnSpPr>
            <a:stCxn id="1163" idx="3"/>
            <a:endCxn id="116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3" idx="5"/>
            <a:endCxn id="116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4" idx="3"/>
            <a:endCxn id="116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4" idx="5"/>
            <a:endCxn id="117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78" idx="3"/>
            <a:endCxn id="1179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5"/>
            <a:endCxn id="1180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6" name=""/>
          <p:cNvCxnSpPr>
            <a:stCxn id="1177" idx="3"/>
            <a:endCxn id="1185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77" idx="4"/>
            <a:endCxn id="1178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83360" y="1511280"/>
            <a:ext cx="268128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187800" y="2286000"/>
            <a:ext cx="2133360" cy="1549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200400" y="2489040"/>
            <a:ext cx="2241720" cy="254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25320" y="269568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ers to two half-edg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23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9404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36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49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54760" y="4572000"/>
            <a:ext cx="1269720" cy="9036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ing break points may not always yield 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 of a new site before the circle event makes the potential circle non-emp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09680" y="40640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54360" y="48513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72080" y="466092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27680" y="430524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93960" y="48387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54360" y="48639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68680" y="444492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48240" y="31496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51440" y="5384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57680" y="560088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87800" y="56260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1000" y="56134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79600" y="5159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686480" y="5499000"/>
            <a:ext cx="177480" cy="177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711680" y="4483080"/>
            <a:ext cx="101520" cy="1130400"/>
          </a:xfrm>
          <a:custGeom>
            <a:avLst/>
            <a:gdLst/>
            <a:ahLst/>
            <a:rect l="l" t="t" r="r" b="b"/>
            <a:pathLst>
              <a:path w="64" h="712">
                <a:moveTo>
                  <a:pt x="0" y="48"/>
                </a:moveTo>
                <a:cubicBezTo>
                  <a:pt x="14" y="380"/>
                  <a:pt x="29" y="712"/>
                  <a:pt x="40" y="704"/>
                </a:cubicBezTo>
                <a:cubicBezTo>
                  <a:pt x="51" y="696"/>
                  <a:pt x="57" y="348"/>
                  <a:pt x="64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10160" y="455940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72"/>
                </a:moveTo>
                <a:cubicBezTo>
                  <a:pt x="0" y="72"/>
                  <a:pt x="28" y="36"/>
                  <a:pt x="5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13200" y="430524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0" y="104"/>
                </a:moveTo>
                <a:cubicBezTo>
                  <a:pt x="0" y="104"/>
                  <a:pt x="36" y="52"/>
                  <a:pt x="72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57600" y="3111480"/>
            <a:ext cx="2654280" cy="26542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55200" y="614844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original circle event becom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 al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368960" y="5833800"/>
            <a:ext cx="581040" cy="392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08600" y="5762520"/>
            <a:ext cx="139680" cy="13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the potential circle event in the even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20200" y="1980720"/>
            <a:ext cx="81406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to corresponding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5" idx="5"/>
            <a:endCxn id="128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stCxn id="1286" idx="3"/>
            <a:endCxn id="129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86" idx="5"/>
            <a:endCxn id="129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7" idx="3"/>
            <a:endCxn id="129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87" idx="5"/>
            <a:endCxn id="130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6" name=""/>
          <p:cNvCxnSpPr>
            <a:stCxn id="1321" idx="3"/>
            <a:endCxn id="132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321" idx="5"/>
            <a:endCxn id="132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9" name=""/>
          <p:cNvCxnSpPr>
            <a:stCxn id="1300" idx="3"/>
            <a:endCxn id="132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300" idx="4"/>
            <a:endCxn id="132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vertex to corresponding edge rec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5" idx="3"/>
            <a:endCxn id="133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35" idx="5"/>
            <a:endCxn id="133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6" name=""/>
          <p:cNvCxnSpPr>
            <a:stCxn id="1336" idx="3"/>
            <a:endCxn id="134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7" name=""/>
          <p:cNvCxnSpPr>
            <a:stCxn id="1336" idx="5"/>
            <a:endCxn id="134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8" name=""/>
          <p:cNvCxnSpPr>
            <a:stCxn id="1337" idx="3"/>
            <a:endCxn id="134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9" name=""/>
          <p:cNvCxnSpPr>
            <a:stCxn id="1337" idx="5"/>
            <a:endCxn id="135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71" idx="3"/>
            <a:endCxn id="137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1" idx="5"/>
            <a:endCxn id="137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50" idx="3"/>
            <a:endCxn id="137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50" idx="4"/>
            <a:endCxn id="137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705040" y="1587240"/>
            <a:ext cx="14986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29280" y="133344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032520" y="1942920"/>
            <a:ext cx="137160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187800" y="2018880"/>
            <a:ext cx="3454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629400" y="1308240"/>
            <a:ext cx="198108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467480" y="2006280"/>
            <a:ext cx="851040" cy="19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067440" y="941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"/>
          <p:cNvCxnSpPr/>
          <p:nvPr/>
        </p:nvCxnSpPr>
        <p:spPr>
          <a:xfrm>
            <a:off x="6210360" y="1600200"/>
            <a:ext cx="419760" cy="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94" name=""/>
          <p:cNvCxnSpPr/>
          <p:nvPr/>
        </p:nvCxnSpPr>
        <p:spPr>
          <a:xfrm>
            <a:off x="6210360" y="1765080"/>
            <a:ext cx="419760" cy="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ites form a perpendicular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30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3000" y="4572000"/>
            <a:ext cx="336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is a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extends infinitel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directions,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 planes on ei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96" idx="3"/>
            <a:endCxn id="1397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6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5" name=""/>
          <p:cNvCxnSpPr>
            <a:stCxn id="1397" idx="3"/>
            <a:endCxn id="140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97" idx="5"/>
            <a:endCxn id="140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7" name=""/>
          <p:cNvCxnSpPr>
            <a:endCxn id="140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11880" y="3962520"/>
            <a:ext cx="111780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429680" y="3987720"/>
            <a:ext cx="482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1" name=""/>
          <p:cNvCxnSpPr>
            <a:stCxn id="1427" idx="3"/>
            <a:endCxn id="1428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2" name=""/>
          <p:cNvCxnSpPr>
            <a:stCxn id="1427" idx="5"/>
            <a:endCxn id="1429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3" name=""/>
          <p:cNvCxnSpPr>
            <a:endCxn id="1427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4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9" name=""/>
          <p:cNvCxnSpPr>
            <a:stCxn id="1437" idx="3"/>
            <a:endCxn id="143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0" name=""/>
          <p:cNvCxnSpPr>
            <a:stCxn id="143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8" idx="3"/>
            <a:endCxn id="144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438" idx="5"/>
            <a:endCxn id="144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1" name=""/>
          <p:cNvCxnSpPr>
            <a:stCxn id="1467" idx="3"/>
            <a:endCxn id="1468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2" name=""/>
          <p:cNvCxnSpPr>
            <a:stCxn id="1467" idx="5"/>
            <a:endCxn id="1469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3" name=""/>
          <p:cNvCxnSpPr>
            <a:stCxn id="1474" idx="5"/>
            <a:endCxn id="1467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5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4" idx="3"/>
            <a:endCxn id="144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new edge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80" idx="3"/>
            <a:endCxn id="1481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3" name=""/>
          <p:cNvCxnSpPr>
            <a:stCxn id="1480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4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9" name=""/>
          <p:cNvCxnSpPr>
            <a:stCxn id="1481" idx="3"/>
            <a:endCxn id="1484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0" name=""/>
          <p:cNvCxnSpPr>
            <a:stCxn id="1481" idx="5"/>
            <a:endCxn id="1485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10" idx="3"/>
            <a:endCxn id="1511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5" name=""/>
          <p:cNvCxnSpPr>
            <a:stCxn id="1510" idx="5"/>
            <a:endCxn id="1512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stCxn id="1517" idx="5"/>
            <a:endCxn id="1510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7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517" idx="3"/>
            <a:endCxn id="1486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83360" y="1523880"/>
            <a:ext cx="2565360" cy="78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705040" y="1866600"/>
            <a:ext cx="2514600" cy="58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7023240" y="2171880"/>
            <a:ext cx="380880" cy="185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66760" y="5489640"/>
            <a:ext cx="46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new edge is traced out by the new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eak point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"/>
          <p:cNvCxnSpPr/>
          <p:nvPr/>
        </p:nvCxnSpPr>
        <p:spPr>
          <a:xfrm flipH="1" flipV="1" rot="5400000">
            <a:off x="5646240" y="4341240"/>
            <a:ext cx="1071000" cy="1200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27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the new triplets for potential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1" name=""/>
          <p:cNvCxnSpPr>
            <a:stCxn id="1529" idx="3"/>
            <a:endCxn id="1530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2" name=""/>
          <p:cNvCxnSpPr>
            <a:stCxn id="1529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3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8" name=""/>
          <p:cNvCxnSpPr>
            <a:stCxn id="1530" idx="3"/>
            <a:endCxn id="1533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9" name=""/>
          <p:cNvCxnSpPr>
            <a:stCxn id="1530" idx="5"/>
            <a:endCxn id="1534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0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9" idx="3"/>
            <a:endCxn id="1560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559" idx="5"/>
            <a:endCxn id="1561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5" name=""/>
          <p:cNvCxnSpPr>
            <a:stCxn id="1566" idx="5"/>
            <a:endCxn id="1559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6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6" idx="3"/>
            <a:endCxn id="1535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3" idx="3"/>
          </p:cNvCxnSpPr>
          <p:nvPr/>
        </p:nvCxnSpPr>
        <p:spPr>
          <a:xfrm flipV="1" rot="16200000">
            <a:off x="4486680" y="4071960"/>
            <a:ext cx="231120" cy="3820320"/>
          </a:xfrm>
          <a:prstGeom prst="curvedConnector5">
            <a:avLst>
              <a:gd name="adj1" fmla="val -109516"/>
              <a:gd name="adj2" fmla="val 25143"/>
              <a:gd name="adj3" fmla="val -10951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1879560" y="5651640"/>
            <a:ext cx="774720" cy="39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179360" y="55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35" idx="2"/>
            <a:endCxn id="1579" idx="0"/>
          </p:cNvCxnSpPr>
          <p:nvPr/>
        </p:nvCxnSpPr>
        <p:spPr>
          <a:xfrm flipH="1" rot="16200000">
            <a:off x="1152360" y="4536720"/>
            <a:ext cx="2223360" cy="7200"/>
          </a:xfrm>
          <a:prstGeom prst="curvedConnector5">
            <a:avLst>
              <a:gd name="adj1" fmla="val 49991"/>
              <a:gd name="adj2" fmla="val 47368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1887120" y="60609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w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86680" y="3759120"/>
            <a:ext cx="266400" cy="116856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or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terminates when Q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 beach line and its break points continue to trace the Voronoi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these “half-infinite” edges via a bounding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7" idx="3"/>
            <a:endCxn id="158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0" name=""/>
          <p:cNvCxnSpPr>
            <a:stCxn id="158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88" idx="3"/>
            <a:endCxn id="159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8" idx="5"/>
            <a:endCxn id="159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7" name=""/>
          <p:cNvCxnSpPr>
            <a:stCxn id="1613" idx="3"/>
            <a:endCxn id="1614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8" name=""/>
          <p:cNvCxnSpPr>
            <a:stCxn id="1613" idx="5"/>
            <a:endCxn id="1615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9" name=""/>
          <p:cNvCxnSpPr>
            <a:stCxn id="1620" idx="5"/>
            <a:endCxn id="1613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0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1" name=""/>
          <p:cNvCxnSpPr>
            <a:stCxn id="1620" idx="3"/>
            <a:endCxn id="159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2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317840" y="46227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866960" y="1882800"/>
            <a:ext cx="2414520" cy="1749240"/>
          </a:xfrm>
          <a:custGeom>
            <a:avLst/>
            <a:gdLst/>
            <a:ahLst/>
            <a:rect l="l" t="t" r="r" b="b"/>
            <a:pathLst>
              <a:path w="1521" h="1102">
                <a:moveTo>
                  <a:pt x="856" y="14"/>
                </a:moveTo>
                <a:cubicBezTo>
                  <a:pt x="776" y="30"/>
                  <a:pt x="691" y="45"/>
                  <a:pt x="616" y="78"/>
                </a:cubicBezTo>
                <a:cubicBezTo>
                  <a:pt x="557" y="104"/>
                  <a:pt x="518" y="149"/>
                  <a:pt x="472" y="190"/>
                </a:cubicBezTo>
                <a:cubicBezTo>
                  <a:pt x="434" y="224"/>
                  <a:pt x="389" y="259"/>
                  <a:pt x="360" y="302"/>
                </a:cubicBezTo>
                <a:cubicBezTo>
                  <a:pt x="316" y="368"/>
                  <a:pt x="294" y="448"/>
                  <a:pt x="224" y="494"/>
                </a:cubicBezTo>
                <a:cubicBezTo>
                  <a:pt x="183" y="556"/>
                  <a:pt x="154" y="625"/>
                  <a:pt x="112" y="686"/>
                </a:cubicBezTo>
                <a:cubicBezTo>
                  <a:pt x="101" y="702"/>
                  <a:pt x="91" y="718"/>
                  <a:pt x="80" y="734"/>
                </a:cubicBezTo>
                <a:cubicBezTo>
                  <a:pt x="65" y="756"/>
                  <a:pt x="32" y="798"/>
                  <a:pt x="32" y="798"/>
                </a:cubicBezTo>
                <a:cubicBezTo>
                  <a:pt x="16" y="845"/>
                  <a:pt x="7" y="884"/>
                  <a:pt x="0" y="934"/>
                </a:cubicBezTo>
                <a:cubicBezTo>
                  <a:pt x="9" y="1021"/>
                  <a:pt x="14" y="1072"/>
                  <a:pt x="104" y="1102"/>
                </a:cubicBezTo>
                <a:cubicBezTo>
                  <a:pt x="152" y="1099"/>
                  <a:pt x="200" y="1100"/>
                  <a:pt x="248" y="1094"/>
                </a:cubicBezTo>
                <a:cubicBezTo>
                  <a:pt x="304" y="1086"/>
                  <a:pt x="367" y="1015"/>
                  <a:pt x="408" y="974"/>
                </a:cubicBezTo>
                <a:cubicBezTo>
                  <a:pt x="424" y="927"/>
                  <a:pt x="460" y="891"/>
                  <a:pt x="480" y="846"/>
                </a:cubicBezTo>
                <a:cubicBezTo>
                  <a:pt x="524" y="747"/>
                  <a:pt x="461" y="850"/>
                  <a:pt x="528" y="750"/>
                </a:cubicBezTo>
                <a:cubicBezTo>
                  <a:pt x="540" y="732"/>
                  <a:pt x="575" y="720"/>
                  <a:pt x="592" y="710"/>
                </a:cubicBezTo>
                <a:cubicBezTo>
                  <a:pt x="630" y="688"/>
                  <a:pt x="670" y="676"/>
                  <a:pt x="712" y="662"/>
                </a:cubicBezTo>
                <a:cubicBezTo>
                  <a:pt x="739" y="653"/>
                  <a:pt x="764" y="631"/>
                  <a:pt x="792" y="622"/>
                </a:cubicBezTo>
                <a:cubicBezTo>
                  <a:pt x="898" y="543"/>
                  <a:pt x="1049" y="565"/>
                  <a:pt x="1176" y="542"/>
                </a:cubicBezTo>
                <a:cubicBezTo>
                  <a:pt x="1222" y="523"/>
                  <a:pt x="1264" y="502"/>
                  <a:pt x="1312" y="486"/>
                </a:cubicBezTo>
                <a:cubicBezTo>
                  <a:pt x="1350" y="473"/>
                  <a:pt x="1415" y="469"/>
                  <a:pt x="1456" y="462"/>
                </a:cubicBezTo>
                <a:cubicBezTo>
                  <a:pt x="1499" y="441"/>
                  <a:pt x="1502" y="427"/>
                  <a:pt x="1520" y="382"/>
                </a:cubicBezTo>
                <a:cubicBezTo>
                  <a:pt x="1516" y="358"/>
                  <a:pt x="1521" y="327"/>
                  <a:pt x="1504" y="310"/>
                </a:cubicBezTo>
                <a:cubicBezTo>
                  <a:pt x="1434" y="240"/>
                  <a:pt x="1304" y="242"/>
                  <a:pt x="1216" y="222"/>
                </a:cubicBezTo>
                <a:cubicBezTo>
                  <a:pt x="1176" y="213"/>
                  <a:pt x="1143" y="192"/>
                  <a:pt x="1104" y="182"/>
                </a:cubicBezTo>
                <a:cubicBezTo>
                  <a:pt x="1062" y="154"/>
                  <a:pt x="1099" y="174"/>
                  <a:pt x="1040" y="158"/>
                </a:cubicBezTo>
                <a:cubicBezTo>
                  <a:pt x="1024" y="154"/>
                  <a:pt x="992" y="142"/>
                  <a:pt x="992" y="142"/>
                </a:cubicBezTo>
                <a:cubicBezTo>
                  <a:pt x="953" y="91"/>
                  <a:pt x="968" y="62"/>
                  <a:pt x="904" y="30"/>
                </a:cubicBezTo>
                <a:cubicBezTo>
                  <a:pt x="893" y="24"/>
                  <a:pt x="856" y="0"/>
                  <a:pt x="856" y="14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5" name=""/>
          <p:cNvCxnSpPr>
            <a:stCxn id="1643" idx="3"/>
            <a:endCxn id="164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6" name=""/>
          <p:cNvCxnSpPr>
            <a:stCxn id="164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1" name=""/>
          <p:cNvCxnSpPr>
            <a:stCxn id="1644" idx="3"/>
            <a:endCxn id="164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2" name=""/>
          <p:cNvCxnSpPr>
            <a:stCxn id="1644" idx="5"/>
            <a:endCxn id="164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68" idx="3"/>
            <a:endCxn id="166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3" name=""/>
          <p:cNvCxnSpPr>
            <a:stCxn id="1668" idx="5"/>
            <a:endCxn id="167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317840" y="46353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5" name=""/>
          <p:cNvCxnSpPr>
            <a:stCxn id="1693" idx="3"/>
            <a:endCxn id="169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94" idx="3"/>
            <a:endCxn id="169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5"/>
            <a:endCxn id="169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521240" y="636264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660920" y="6400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18520" y="63882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51560" y="5283360"/>
            <a:ext cx="2400480" cy="1666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2" name=""/>
          <p:cNvCxnSpPr>
            <a:stCxn id="1718" idx="3"/>
            <a:endCxn id="171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8" idx="5"/>
            <a:endCxn id="172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127400" y="2628720"/>
            <a:ext cx="199404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38960" y="1612800"/>
            <a:ext cx="9396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419720" y="5054760"/>
            <a:ext cx="204444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003640"/>
            <a:ext cx="254160" cy="637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27400" y="1346040"/>
            <a:ext cx="4749840" cy="42418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38960" y="1371240"/>
            <a:ext cx="126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101600" y="430848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inate half-line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a bounding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e potential circle event in the even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new edge record in the link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69640" y="40384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267080" y="2209680"/>
            <a:ext cx="914400" cy="3505320"/>
            <a:chOff x="4267080" y="2209680"/>
            <a:chExt cx="914400" cy="3505320"/>
          </a:xfrm>
        </p:grpSpPr>
        <p:sp>
          <p:nvSpPr>
            <p:cNvPr id="135" name=""/>
            <p:cNvSpPr/>
            <p:nvPr/>
          </p:nvSpPr>
          <p:spPr>
            <a:xfrm>
              <a:off x="42670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near sites form a series of parallel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41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209680"/>
            <a:ext cx="914400" cy="3505320"/>
            <a:chOff x="5181480" y="2209680"/>
            <a:chExt cx="914400" cy="3505320"/>
          </a:xfrm>
        </p:grpSpPr>
        <p:sp>
          <p:nvSpPr>
            <p:cNvPr id="148" name=""/>
            <p:cNvSpPr/>
            <p:nvPr/>
          </p:nvSpPr>
          <p:spPr>
            <a:xfrm>
              <a:off x="51814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2209680"/>
            <a:ext cx="914400" cy="3505320"/>
            <a:chOff x="2438280" y="2209680"/>
            <a:chExt cx="914400" cy="3505320"/>
          </a:xfrm>
        </p:grpSpPr>
        <p:sp>
          <p:nvSpPr>
            <p:cNvPr id="153" name=""/>
            <p:cNvSpPr/>
            <p:nvPr/>
          </p:nvSpPr>
          <p:spPr>
            <a:xfrm>
              <a:off x="24382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5880" y="2209680"/>
            <a:ext cx="914400" cy="3505320"/>
            <a:chOff x="6095880" y="2209680"/>
            <a:chExt cx="914400" cy="3505320"/>
          </a:xfrm>
        </p:grpSpPr>
        <p:sp>
          <p:nvSpPr>
            <p:cNvPr id="157" name=""/>
            <p:cNvSpPr/>
            <p:nvPr/>
          </p:nvSpPr>
          <p:spPr>
            <a:xfrm>
              <a:off x="60958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469640" y="3733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site can generate at most two new ar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line can have at most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te and circle events in th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/Circle Event Handler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tal runn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Fortune’s Algorithm Opt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10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ort numbers using any algorithm that constructs a Voronoi diagr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nput numbers to a position on the number line.  The resulting Voronoi diagram is doubly linked list that forms a chain of unbounded cells in the left-to-right  (sorted)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402840" y="2252520"/>
            <a:ext cx="7783920" cy="2320920"/>
            <a:chOff x="402840" y="2252520"/>
            <a:chExt cx="7783920" cy="2320920"/>
          </a:xfrm>
        </p:grpSpPr>
        <p:sp>
          <p:nvSpPr>
            <p:cNvPr id="1764" name=""/>
            <p:cNvSpPr/>
            <p:nvPr/>
          </p:nvSpPr>
          <p:spPr>
            <a:xfrm>
              <a:off x="46245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6748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02400" y="3386160"/>
              <a:ext cx="15228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478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41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34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64160" y="226836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17600" y="3549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016520" y="35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0040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786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772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47760" y="3425760"/>
              <a:ext cx="693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840" y="2954160"/>
              <a:ext cx="118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onoi Diagram/Convex Hull D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90080" y="162576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s sharing a half-infinite edge are convex hull ver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4521240" y="298080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240080" y="3833640"/>
            <a:ext cx="6372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240080" y="343836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645080" y="3959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149800" y="3903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128320" y="2293560"/>
            <a:ext cx="4162680" cy="3378240"/>
            <a:chOff x="2128320" y="2293560"/>
            <a:chExt cx="4162680" cy="3378240"/>
          </a:xfrm>
        </p:grpSpPr>
        <p:grpSp>
          <p:nvGrpSpPr>
            <p:cNvPr id="1792" name=""/>
            <p:cNvGrpSpPr/>
            <p:nvPr/>
          </p:nvGrpSpPr>
          <p:grpSpPr>
            <a:xfrm>
              <a:off x="2128320" y="2293560"/>
              <a:ext cx="4162680" cy="3378240"/>
              <a:chOff x="2128320" y="2293560"/>
              <a:chExt cx="4162680" cy="337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2563200" y="2696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81720" y="3390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2749680" y="3769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128320" y="4780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49680" y="4653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806280" y="3958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868200" y="3769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551840" y="3438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3080" y="3958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806280" y="4653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4652280" y="4369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543920" y="3145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666240" y="2972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60200" y="4906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157360" y="3967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74880" y="3161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5149800" y="3414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5444640" y="2940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528080" y="2293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>
              <a:off x="4963680" y="5009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660560" y="4664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739960" y="2962440"/>
            <a:ext cx="2739600" cy="1988640"/>
            <a:chOff x="2739960" y="2962440"/>
            <a:chExt cx="2739600" cy="1988640"/>
          </a:xfrm>
        </p:grpSpPr>
        <p:sp>
          <p:nvSpPr>
            <p:cNvPr id="1815" name=""/>
            <p:cNvSpPr/>
            <p:nvPr/>
          </p:nvSpPr>
          <p:spPr>
            <a:xfrm>
              <a:off x="4624560" y="4877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790800" y="461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39960" y="4748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37600" y="3738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21720" y="380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76080" y="3944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1600" y="4339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17760" y="3951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13440" y="3858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12960" y="3418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36360" y="3134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88480" y="2962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39600" y="335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07200" y="3379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3930480" y="4970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118040" y="4338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61484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49720" y="42750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496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24440" y="3390840"/>
            <a:ext cx="18720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9720" y="301320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807000" y="408636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71760" y="3581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930480" y="3328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07000" y="294948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70640" y="51307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3464640" y="3044880"/>
            <a:ext cx="2113560" cy="2021040"/>
            <a:chOff x="3464640" y="3044880"/>
            <a:chExt cx="2113560" cy="2021040"/>
          </a:xfrm>
        </p:grpSpPr>
        <p:cxnSp>
          <p:nvCxnSpPr>
            <p:cNvPr id="1842" name=""/>
            <p:cNvCxnSpPr>
              <a:stCxn id="1833" idx="3"/>
              <a:endCxn id="1832" idx="7"/>
            </p:cNvCxnSpPr>
            <p:nvPr/>
          </p:nvCxnSpPr>
          <p:spPr>
            <a:xfrm flipH="1">
              <a:off x="5208120" y="3931920"/>
              <a:ext cx="303840" cy="370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3" name=""/>
            <p:cNvCxnSpPr/>
            <p:nvPr/>
          </p:nvCxnSpPr>
          <p:spPr>
            <a:xfrm flipH="1" flipV="1">
              <a:off x="3464640" y="3769560"/>
              <a:ext cx="492840" cy="1227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4" name=""/>
            <p:cNvCxnSpPr/>
            <p:nvPr/>
          </p:nvCxnSpPr>
          <p:spPr>
            <a:xfrm flipV="1">
              <a:off x="3465000" y="3110760"/>
              <a:ext cx="369000" cy="470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5" name=""/>
            <p:cNvCxnSpPr/>
            <p:nvPr/>
          </p:nvCxnSpPr>
          <p:spPr>
            <a:xfrm>
              <a:off x="3992040" y="3044880"/>
              <a:ext cx="1058040" cy="64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6" name=""/>
            <p:cNvCxnSpPr/>
            <p:nvPr/>
          </p:nvCxnSpPr>
          <p:spPr>
            <a:xfrm>
              <a:off x="5208120" y="3174840"/>
              <a:ext cx="370440" cy="596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7" name=""/>
            <p:cNvCxnSpPr/>
            <p:nvPr/>
          </p:nvCxnSpPr>
          <p:spPr>
            <a:xfrm flipH="1">
              <a:off x="4117320" y="4437000"/>
              <a:ext cx="959760" cy="629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Q share the same y-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ditionally sort them using x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event involving more than 3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lgorithm produces multiple degree 3 Voronoi vertices joined by zero-length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fixed in pos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points are collinear (break points neither converge or div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ing box takes care of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ites coincides with the lowest point of the circl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: the same algorithm appl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9360" y="430524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5560" y="3844800"/>
            <a:ext cx="2249640" cy="49392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4208400" y="4411800"/>
            <a:ext cx="0" cy="10461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73800" y="1649520"/>
            <a:ext cx="63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it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one of the arcs an infinitesimal dist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arc’s e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690640" y="6002280"/>
            <a:ext cx="338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74720" y="4421160"/>
            <a:ext cx="2233800" cy="1699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70560" y="3843360"/>
            <a:ext cx="1887480" cy="49356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89440" y="4340160"/>
            <a:ext cx="654120" cy="1541520"/>
          </a:xfrm>
          <a:custGeom>
            <a:avLst/>
            <a:gdLst/>
            <a:ahLst/>
            <a:rect l="l" t="t" r="r" b="b"/>
            <a:pathLst>
              <a:path w="412" h="971">
                <a:moveTo>
                  <a:pt x="0" y="119"/>
                </a:moveTo>
                <a:cubicBezTo>
                  <a:pt x="71" y="545"/>
                  <a:pt x="142" y="971"/>
                  <a:pt x="211" y="951"/>
                </a:cubicBezTo>
                <a:cubicBezTo>
                  <a:pt x="280" y="931"/>
                  <a:pt x="346" y="465"/>
                  <a:pt x="412" y="0"/>
                </a:cubicBezTo>
              </a:path>
            </a:pathLst>
          </a:custGeom>
          <a:noFill/>
          <a:ln w="507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 is a useful planar subdivision of a discrete poi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s have linear complexity and can be constructed in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 (opt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collinear sites form Voronoi half lines that meet at a ve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89548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16360" y="2901960"/>
            <a:ext cx="1993680" cy="1993680"/>
            <a:chOff x="3816360" y="2901960"/>
            <a:chExt cx="1993680" cy="1993680"/>
          </a:xfrm>
        </p:grpSpPr>
        <p:sp>
          <p:nvSpPr>
            <p:cNvPr id="166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248720" y="333432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6360" y="2901960"/>
              <a:ext cx="1993680" cy="19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1752480"/>
            <a:ext cx="6150960" cy="4757400"/>
            <a:chOff x="2666880" y="1752480"/>
            <a:chExt cx="6150960" cy="4757400"/>
          </a:xfrm>
        </p:grpSpPr>
        <p:sp>
          <p:nvSpPr>
            <p:cNvPr id="170" name=""/>
            <p:cNvSpPr/>
            <p:nvPr/>
          </p:nvSpPr>
          <p:spPr>
            <a:xfrm>
              <a:off x="2666880" y="1752480"/>
              <a:ext cx="2286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4760" y="4952880"/>
              <a:ext cx="295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Voronoi vertex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enter of 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le touching 3 o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si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73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68200" y="2620080"/>
            <a:ext cx="4147920" cy="3770640"/>
            <a:chOff x="1168200" y="2620080"/>
            <a:chExt cx="4147920" cy="3770640"/>
          </a:xfrm>
        </p:grpSpPr>
        <p:sp>
          <p:nvSpPr>
            <p:cNvPr id="176" name=""/>
            <p:cNvSpPr/>
            <p:nvPr/>
          </p:nvSpPr>
          <p:spPr>
            <a:xfrm>
              <a:off x="1168200" y="593100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6" idx="3"/>
            </p:cNvCxnSpPr>
            <p:nvPr/>
          </p:nvCxnSpPr>
          <p:spPr>
            <a:xfrm flipV="1">
              <a:off x="2544480" y="5320440"/>
              <a:ext cx="943560" cy="83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</p:cNvCxnSpPr>
            <p:nvPr/>
          </p:nvCxnSpPr>
          <p:spPr>
            <a:xfrm flipV="1">
              <a:off x="2544480" y="4711320"/>
              <a:ext cx="2772000" cy="1448640"/>
            </a:xfrm>
            <a:prstGeom prst="curvedConnector5">
              <a:avLst>
                <a:gd name="adj1" fmla="val 69190"/>
                <a:gd name="adj2" fmla="val 49987"/>
                <a:gd name="adj3" fmla="val 691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H="1" flipV="1" rot="5400000">
              <a:off x="1249200" y="3915720"/>
              <a:ext cx="3513960" cy="923040"/>
            </a:xfrm>
            <a:prstGeom prst="curvedConnector5">
              <a:avLst>
                <a:gd name="adj1" fmla="val 91096"/>
                <a:gd name="adj2" fmla="val 49980"/>
                <a:gd name="adj3" fmla="val 910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378360" y="354636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tex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89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21:10Z</dcterms:created>
  <dc:creator>MIT</dc:creator>
  <dc:description/>
  <dc:language>en-US</dc:language>
  <cp:lastModifiedBy>MIT</cp:lastModifiedBy>
  <dcterms:modified xsi:type="dcterms:W3CDTF">2001-09-28T01:14:56Z</dcterms:modified>
  <cp:revision>389</cp:revision>
  <dc:subject/>
  <dc:title>Voronoi Diagrams</dc:title>
</cp:coreProperties>
</file>